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7A2-DBFA-43AB-9A92-0C501730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88D-41C2-470A-93D4-B352118B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92C-F392-4028-AA4E-6383FC9C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32D-5EB6-4596-A64C-F412B87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C6C-BE19-4E6A-8CA7-D258AA3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D99-A3A6-4426-9B32-F6C5C8B2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C1F-00D0-4214-B89A-806E549D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360-5F95-4EAB-8302-DDACA9B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8D0-54D4-4686-943B-AE8CE7F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B8E-59D8-4C90-A196-E3455F0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8DE-1D8A-4CBB-9981-BFCC64B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45C-137D-4A9B-BEAB-8939CBAB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24AA-A31B-41B4-A35C-994506AE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00000" y="333360"/>
            <a:ext cx="1091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08:35Z</dcterms:created>
  <dc:creator>juni5627</dc:creator>
  <dc:description/>
  <dc:language>en-US</dc:language>
  <cp:lastModifiedBy>juni5627</cp:lastModifiedBy>
  <dcterms:modified xsi:type="dcterms:W3CDTF">2011-12-05T12:08:46Z</dcterms:modified>
  <cp:revision>1</cp:revision>
  <dc:subject/>
  <dc:title>Diapositiva 1</dc:title>
</cp:coreProperties>
</file>